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ct" ContentType="image/x-pict"/>
  <Override PartName="/ppt/media/image10.pct" ContentType="image/x-pict"/>
  <Override PartName="/ppt/media/image9.pct" ContentType="image/x-pict"/>
  <Override PartName="/ppt/media/image1.pct" ContentType="image/x-pict"/>
  <Override PartName="/ppt/media/image4.png" ContentType="image/png"/>
  <Override PartName="/ppt/media/image15.pct" ContentType="image/x-pict"/>
  <Override PartName="/ppt/media/image2.pct" ContentType="image/x-pict"/>
  <Override PartName="/ppt/media/image5.png" ContentType="image/png"/>
  <Override PartName="/ppt/media/image16.pct" ContentType="image/x-pict"/>
  <Override PartName="/ppt/media/image14.pct" ContentType="image/x-pict"/>
  <Override PartName="/ppt/media/image3.png" ContentType="image/png"/>
  <Override PartName="/ppt/media/image6.pct" ContentType="image/x-pict"/>
  <Override PartName="/ppt/media/image11.pct" ContentType="image/x-pict"/>
  <Override PartName="/ppt/media/image7.jpeg" ContentType="image/jpeg"/>
  <Override PartName="/ppt/media/image8.pct" ContentType="image/x-pict"/>
  <Override PartName="/ppt/media/image13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47C0-E232-42CF-8D58-99B4B9A78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DC83-A253-4896-A7A5-46755745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9F4E-1697-4E89-8F3E-FA7795DE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1ED-3CA6-49F0-9453-546C6974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6E35-997B-4608-A2EC-761161C2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937-D82C-435E-8769-1074A7F5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6B59-AE55-4C9D-BE0F-8F7D1E4C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479-8AA1-4662-9528-85904F79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DB06-C73C-4E0D-98CC-597B400D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D28-9FF2-406D-A61B-D97CE6D0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5ED3-9322-4F63-A38A-CAB2BFB0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3FF2-A51D-4A84-A0F6-87326E99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281A-7962-4781-BA96-19F7459AB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bofoundry.org/ro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obo.sourceforge.net/" TargetMode="External"/><Relationship Id="rId2" Type="http://schemas.openxmlformats.org/officeDocument/2006/relationships/hyperlink" Target="http://www.obofoundry.org/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yuri.lbl.gov:9000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lybase.org/" TargetMode="External"/><Relationship Id="rId2" Type="http://schemas.openxmlformats.org/officeDocument/2006/relationships/hyperlink" Target="http://www.wormbase.org/" TargetMode="External"/><Relationship Id="rId3" Type="http://schemas.openxmlformats.org/officeDocument/2006/relationships/hyperlink" Target="http://www.yeastgenome.org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tology-oriented databases: Chado and OB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awrence Berkeley Lab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rigins of Chad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was originally developed for FlyBa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gration of GadFly (Berkeley) and previous FlyBase data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later adopted by GMOD and other some individual MO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pular amongst ‘newer’ MODs; eg Parameciu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so used outside MOD commun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IG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enalia Farm Research Campu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 key concep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ightly Integrat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eign key relations between entit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ntrast with federated mod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ule Syste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ew modules can be ‘slotted in’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me modules are mandator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ric and extensi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s ontologies and terminologies for typ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y normalis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unity &amp; open sour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 modul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ill Sans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dbxref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ill Sans"/>
              </a:rPr>
              <a:t>cv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ontologi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ub (bibliographic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ud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mai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ill Sans"/>
              </a:rPr>
              <a:t>sequenc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genomic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A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ylogen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dentifiers: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dbxref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l public records identified using bipartite sche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 just external cross-referen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B Authority must be specifi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istinct tabl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an be associated with URI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(db, accession, version[optional]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rds can also get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econdar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bxref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:0000001, FlyBase:FBgn0000001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62920" y="2438280"/>
            <a:ext cx="165096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tologies and terminologies are central to 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ntology - A formal representation of some portion of biological re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4648320"/>
            <a:ext cx="1371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3200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things exi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441972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elationship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between these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6095880"/>
            <a:ext cx="2286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ommati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00800" y="30481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ense 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3352680"/>
            <a:ext cx="167652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391520" y="365760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5028840" y="4267080"/>
            <a:ext cx="1676520" cy="609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791320" y="5257440"/>
            <a:ext cx="152388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76400" y="38703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54864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30280" y="449568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24382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tologies: cv modu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ased on GO DB Schema and OBO format spe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666880"/>
            <a:ext cx="3962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cvterm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a term, or class in an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cvterm_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bject-predicate-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Cv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an ontology or terminolog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32320" y="3581280"/>
            <a:ext cx="471168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7086600" cy="6337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7240" y="3124080"/>
            <a:ext cx="14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e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4120" y="2209680"/>
          <a:ext cx="3581280" cy="1335240"/>
        </p:xfrm>
        <a:graphic>
          <a:graphicData uri="http://schemas.openxmlformats.org/drawingml/2006/table">
            <a:tbl>
              <a:tblPr/>
              <a:tblGrid>
                <a:gridCol w="1295280"/>
                <a:gridCol w="990720"/>
                <a:gridCol w="1295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_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cript r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cript reg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cri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enomics: Sequence modu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key concepts (a subset)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genomic entity (gene, intron, SNP, chromosome, ..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lo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relative location in sequence coordinat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_relationshi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pairwise relation between two featur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45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exon to transcrip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pro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ag-value data for a featur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_cvter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ntology-based annot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tab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eatures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sequenc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quence ar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independent ent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mbedded in feature ta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ll features reside in same tab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s, exons, chromosomes, SNPs, .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d using Sequence Ontology (SO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ptional extra: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Automatically generat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SQL view lay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467480" y="1752480"/>
            <a:ext cx="14223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4051440" cy="4267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Graphs: the </a:t>
            </a: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feature_relationship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tab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52320" y="2057400"/>
            <a:ext cx="5410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eature graphs (FG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ubject-predicate-obje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edicates (types) are cv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ad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MOD &amp; Model Organism Datab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mics data in Chado using S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B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CBO &amp; OBD Requir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DF and the semantic web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PARQL endpoi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: alternately spliced gen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7 featur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 ge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2 transcrip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4 ex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67080" y="4952880"/>
            <a:ext cx="4381560" cy="105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3505320" y="2057400"/>
          <a:ext cx="5029200" cy="2425680"/>
        </p:xfrm>
        <a:graphic>
          <a:graphicData uri="http://schemas.openxmlformats.org/drawingml/2006/table">
            <a:tbl>
              <a:tblPr/>
              <a:tblGrid>
                <a:gridCol w="1752480"/>
                <a:gridCol w="1295280"/>
                <a:gridCol w="1981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edic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b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 (ge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 (ge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 (ex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art_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(transcri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457200" y="4343400"/>
            <a:ext cx="2743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t sh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lypept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graph configurations are constrained by S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 determines ontological relations between featu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g: Exon part_of transcrip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ndard rules for is_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is_a Y, Y part_of Z =&gt; X part_of Z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e OBO Relation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obofoundry.org/r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les must be encoded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outsid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standard relational schem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clarative programming: SQL Func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werful, but option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tgreSQL on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n be por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paration of interface from implement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quence oper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ranscription, transl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ature Graph oper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duction of implicit features (eg intron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cation Graph oper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jection, mereological rela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lated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"/>
          <p:cNvSpPr/>
          <p:nvPr/>
        </p:nvSpPr>
        <p:spPr>
          <a:xfrm>
            <a:off x="1804320" y="5667480"/>
            <a:ext cx="78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ta S, Patel JM, Friedman JS, and Swaroop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larative querying for biological sequence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oc of the 22nd International Conference on Data Engineering (ICD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pril 3-7, Atlanta, GA,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: ongoing work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for phenotype (EQ)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FlyBase, ZFIN, Dicty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for evolutionary sci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 collaboration with NESC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cumentation!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lpdesk (NESCENT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re GMOD integ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nified Architecture for GMOD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atest Obo format featur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ow for post-composition of complex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NCBO: OBO and OB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O: Open Bio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obo.sourceforge.n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obofoundry.or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CBO BioPortal; access to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O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D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urrent DBP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 &amp; fish mutant phenotype annot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nking to disea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V Clinical trial analysi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D: Storing biomedical annota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quirements different from Ch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main sco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 of biology and biomedic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tologies used for anno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 just OB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ata integ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minimum amount of 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 to external data where appropria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 and use data servi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quirements partially met by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emantic web techn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Semantic Web Datamodel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ased on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DF tri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ubject-predicate-objec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ach element is a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URI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Various serialisation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DF/XM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3, N-Trip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ultiple APIs, QLs and storage op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DF Graphs constrained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ressed in RDF Schema, OW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10080" y="457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D ‘Schema’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ormal ontology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nnot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4954680" cy="64008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861880" y="4952880"/>
            <a:ext cx="29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OBO Found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uses OBO upper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mplementing OBD using SemWeb techn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D-Ses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3rd party triplesto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al or in-memor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acks native OWL supp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D-SQ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ed at Berkele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use Chado methodology, cod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iplestore’ with extra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duces triple overhead with common patter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Wrapping databases as SPARQL endpoin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lot of data in existing relational databases like Ch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al: make available as distributed resour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in OBD compliant w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lution: d2rq declarative mappings and SPARQ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gres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 Database SPARQL endpoint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yuri.lbl.gov:9000/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ado and OBD mappings coming so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ication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gration of annotations through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genome dashboar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hado: what is it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lational database schema for biological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t of the Generic Model Organism Database (GMOD) proje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ttp://www.gmod.or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operable tools for Model Organism Datab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do was originally built for MO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5915160" cy="3506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9480" y="5410080"/>
            <a:ext cx="83844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5410080"/>
            <a:ext cx="83808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5638680"/>
            <a:ext cx="83844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5638680"/>
            <a:ext cx="838080" cy="7621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615636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080" y="5851440"/>
            <a:ext cx="166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ease/ph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5800" y="6461280"/>
            <a:ext cx="17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om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8000" y="62485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952880"/>
            <a:ext cx="838080" cy="38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2r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5257800"/>
            <a:ext cx="838440" cy="380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2r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5181480"/>
            <a:ext cx="838080" cy="38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5105520"/>
            <a:ext cx="1066680" cy="380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s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2640" y="38160"/>
            <a:ext cx="76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ge scenario: AJAX Gbrowse (http://genome.biowiki.o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62120" y="1600200"/>
            <a:ext cx="3962160" cy="320040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1219320"/>
            <a:ext cx="1447560" cy="685800"/>
          </a:xfrm>
          <a:prstGeom prst="wedgeRectCallout">
            <a:avLst>
              <a:gd name="adj1" fmla="val -46050"/>
              <a:gd name="adj2" fmla="val 56712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Ann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  <a:ea typeface="ＭＳ Ｐゴシック"/>
              </a:rPr>
              <a:t>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90920" y="1752480"/>
            <a:ext cx="2286000" cy="327672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343400" y="2666520"/>
            <a:ext cx="304920" cy="251460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486040" y="1828440"/>
            <a:ext cx="1066680" cy="3429000"/>
          </a:xfrm>
          <a:prstGeom prst="line">
            <a:avLst/>
          </a:prstGeom>
          <a:ln w="25560">
            <a:solidFill>
              <a:srgbClr val="0000ff">
                <a:alpha val="62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01160" y="44956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r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0080" y="45720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AS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880" y="44956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r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1240" y="419112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ar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lexible hypernormalized schema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rformance penalt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o much freedom expression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ntologies + reasoners provide some constraints; eg S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pen world assump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ederation vs tight integ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ight integration is required for MO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s more data types become available dynamic integration will be ke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DF and SPARQL is one solu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B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hengqiang Shu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rk Gibs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icole Washingt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th Carb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John Day Richt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hris Smit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aren Eilbeck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ma Misr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zanna Lew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48120" y="1981080"/>
            <a:ext cx="3124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ave Emmer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inglei Zhou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eili Zha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ubrey de Gre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ul Leylan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illiam Gelbar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HM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Gerry Rub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MOD, N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cott C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hel Merch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ric 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erra Mox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drew Uzil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rian Osb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an Hol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coln 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16360" y="29098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eature localis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terbas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plifies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ll localisations relativ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Location Graph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LG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ursive/nested locations allow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35440" cy="1663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495680" y="3733920"/>
            <a:ext cx="4165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cursive location graph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cations can be nes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inished genomes typically flat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pth(LG)=1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nfinished genomes, heterochromatin may require 2 (rarely more) level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788400" indent="-157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eatures located relative to contig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788400" indent="-157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ontigs related relative to chrmosom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512640" indent="-196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y be a requirement to change coordinates at each level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ndependentl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78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Nested LG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2743200"/>
          <a:ext cx="7238880" cy="1306440"/>
        </p:xfrm>
        <a:graphic>
          <a:graphicData uri="http://schemas.openxmlformats.org/drawingml/2006/table">
            <a:tbl>
              <a:tblPr/>
              <a:tblGrid>
                <a:gridCol w="1824120"/>
                <a:gridCol w="1824120"/>
                <a:gridCol w="2371680"/>
                <a:gridCol w="1218960"/>
              </a:tblGrid>
              <a:tr h="31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e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rcfe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o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..200[+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i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nti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000..13000[+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ro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on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100..13100[+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rom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1463400" y="5008680"/>
            <a:ext cx="667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t localisations can be used to ‘flatten’ 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&gt;0 indicates denormalised/flattened 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ust be recalculated if group=0 coordinates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al featureloc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relation between two or more loc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tches, sequence varian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dicated using rank colum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 case: SNP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mple way to query for variants introducing premature termination of transl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mbine relational featurelocs and redundant featureloc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3+ featureloc pairs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equence of SNP on reference and variant genome (+ location on reference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ame on transcript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ame on polypeptid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WL entailment genomics use cas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 defines ‘TE gene’ a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SO:gene which is part_of a SO: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 OWL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lass(TE_Gene complete Gene part_of(TE)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Queries for ‘SO:TE_gene’ return features not explicitly annotated as suc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pare: Chad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quivalent rules to be add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stgreSQL functions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boedit reasoner adapter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 brief introduction to MOD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Model Organism Databas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Base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(D melanogaster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ormBase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(C elegan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GD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(M musculu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does a MOD organisation d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ate and integrate data on a specific species or tax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 a web portal for the commun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database requirements for a MOD?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52680" y="2057400"/>
            <a:ext cx="5372280" cy="4317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store representations of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genes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genomic entit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2895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equence dat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xon-intron structur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oncoding gen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ated and computed featur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ntities with unusual transcriptional propert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d more…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store other data types pertinent to that organism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cluding, but not limited to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tic and phenotyp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riorities amongst MODs diff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fferent MOs have different biological and experimental characteristic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.g.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D melanogas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and genetic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9144000" cy="3197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house rich annotation data using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ontologies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(Gene Ontology); Anatomical Ontologies; Phenotype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3994200" cy="5181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track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provenanc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evidenc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for dat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 data is often curated from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literatu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ther sour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Comput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High throughput 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mag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5800" y="4952880"/>
            <a:ext cx="3200400" cy="1676160"/>
            <a:chOff x="685800" y="4952880"/>
            <a:chExt cx="3200400" cy="16761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56360" y="4952880"/>
              <a:ext cx="2939400" cy="158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85800" y="5476680"/>
              <a:ext cx="3200400" cy="10828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756360" y="5507280"/>
              <a:ext cx="2916000" cy="112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st be an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integrated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source of dat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ust drive Web Port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flybase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wormbase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http://www.yeastgenome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inks out to external resourc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, Ensembl, UniProt, …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ubstantial amount of records manag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locall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in single integrated databa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 Mungall</cp:lastModifiedBy>
  <dcterms:modified xsi:type="dcterms:W3CDTF">2006-11-16T16:33:02Z</dcterms:modified>
  <cp:revision>146</cp:revision>
  <dc:subject/>
  <dc:title>Chado: evolution of a biological database LONG VERSION</dc:title>
</cp:coreProperties>
</file>